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B273-0CB2-4580-AEF0-E87B54B5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9C0E-60F4-4D92-A65F-F3511305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E190-E3CB-4F75-B791-E4629B93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59EE-1E47-43BA-A7A7-5095745A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EAA0-D19C-4911-A7D9-B5F018B2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AE20-C0E5-4F9D-8DBA-70E1587B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7B8E-8574-490D-B0F4-95FF1556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581A-EB2E-4BA4-B9D9-C0D2949A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1D16-EA2A-47F4-BC8E-82DB7CBD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F0D5-FB23-490F-9AAD-B1468FAA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C5E3-7389-435A-B7D4-946C85E6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BE11-8BFF-4179-88E8-DB240C37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FA01-EF89-4DC5-98E6-CBC26B25D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228600"/>
            <a:ext cx="6105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NOTES  OVER  SOLV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</p:txBody>
      </p:sp>
      <p:sp>
        <p:nvSpPr>
          <p:cNvPr id="42" name=""/>
          <p:cNvSpPr txBox="1"/>
          <p:nvPr/>
        </p:nvSpPr>
        <p:spPr>
          <a:xfrm rot="5400000">
            <a:off x="-2762640" y="3067200"/>
            <a:ext cx="61722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olve each equ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447920" y="1066680"/>
                <a:ext cx="47433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057400" y="1905120"/>
                <a:ext cx="16765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657600" y="1905120"/>
                <a:ext cx="228600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752480" y="2438280"/>
                <a:ext cx="14526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495680" y="2438280"/>
                <a:ext cx="14526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752480" y="3200400"/>
            <a:ext cx="426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286000" y="3200400"/>
                <a:ext cx="8618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124080" y="3352680"/>
                <a:ext cx="5191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595680" y="3124080"/>
                <a:ext cx="1038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367000" y="3124080"/>
                <a:ext cx="64440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809880" y="3124080"/>
                <a:ext cx="6447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362320" y="4952880"/>
                <a:ext cx="66024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124080" y="5181480"/>
                <a:ext cx="5191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733920" y="5029200"/>
                <a:ext cx="7077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447920" y="228600"/>
            <a:ext cx="6105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NOTES  OVER  SOLV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</p:txBody>
      </p:sp>
      <p:sp>
        <p:nvSpPr>
          <p:cNvPr id="58" name=""/>
          <p:cNvSpPr txBox="1"/>
          <p:nvPr/>
        </p:nvSpPr>
        <p:spPr>
          <a:xfrm rot="5400000">
            <a:off x="-2762640" y="3067200"/>
            <a:ext cx="61722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olve each equ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733400" y="1012680"/>
                <a:ext cx="405792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286000" y="1295280"/>
                <a:ext cx="10396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257800" y="1371600"/>
                <a:ext cx="9651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 flipV="1">
            <a:off x="2362320" y="1371240"/>
            <a:ext cx="2286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581280" y="1828440"/>
            <a:ext cx="2286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666880" y="2514600"/>
                <a:ext cx="17337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495680" y="2666880"/>
                <a:ext cx="5209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952880" y="2514600"/>
                <a:ext cx="13017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581280" y="3124080"/>
                <a:ext cx="78588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410080" y="3124080"/>
                <a:ext cx="78588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2590920" y="3733920"/>
            <a:ext cx="3733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581280" y="3809880"/>
                <a:ext cx="8766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495680" y="3962520"/>
                <a:ext cx="5209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952880" y="3809880"/>
                <a:ext cx="12193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733920" y="3733920"/>
                <a:ext cx="59832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410080" y="3733920"/>
                <a:ext cx="59868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809880" y="5562720"/>
                <a:ext cx="5698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495680" y="5715000"/>
                <a:ext cx="5209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029200" y="5486400"/>
                <a:ext cx="9525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238880" y="4876920"/>
            <a:ext cx="1676520" cy="1447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447920" y="228600"/>
            <a:ext cx="6105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NOTES  OVER  SOLV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</p:txBody>
      </p:sp>
      <p:sp>
        <p:nvSpPr>
          <p:cNvPr id="80" name=""/>
          <p:cNvSpPr txBox="1"/>
          <p:nvPr/>
        </p:nvSpPr>
        <p:spPr>
          <a:xfrm rot="5400000">
            <a:off x="-2762640" y="3067200"/>
            <a:ext cx="61722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olve each equ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600200" y="1066680"/>
                <a:ext cx="556884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600200" y="2286000"/>
                <a:ext cx="10666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500200" y="1860480"/>
                <a:ext cx="10969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581280" y="1828800"/>
                <a:ext cx="27115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343400" y="1905120"/>
                <a:ext cx="8128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5105520" y="1905120"/>
                <a:ext cx="12636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7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2666880" y="251460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191120" y="2514600"/>
                <a:ext cx="698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600200" y="3505320"/>
                <a:ext cx="10666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514600" y="3200400"/>
                <a:ext cx="10969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581280" y="3124080"/>
                <a:ext cx="21132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343400" y="3200400"/>
                <a:ext cx="9777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7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2666880" y="3809880"/>
            <a:ext cx="304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809880" y="3809880"/>
                <a:ext cx="6987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867280" y="3581280"/>
                <a:ext cx="533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400800" y="3200400"/>
                <a:ext cx="10969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467480" y="3200400"/>
                <a:ext cx="12193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6477120" y="38098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7315200" y="3809880"/>
                <a:ext cx="6984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447920" y="4419720"/>
                <a:ext cx="10969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438280" y="4419720"/>
                <a:ext cx="12193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600200" y="5029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362320" y="5029200"/>
                <a:ext cx="698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657600" y="4876920"/>
                <a:ext cx="53352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414680" y="4419720"/>
                <a:ext cx="69372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4343400" y="50292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419720" y="5029200"/>
                <a:ext cx="698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257800" y="4876920"/>
                <a:ext cx="53352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715000" y="4343400"/>
                <a:ext cx="4968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523880" y="5638680"/>
                <a:ext cx="10969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514600" y="5638680"/>
                <a:ext cx="12193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600200" y="62485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438280" y="6210360"/>
                <a:ext cx="698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733920" y="6095880"/>
                <a:ext cx="5331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191120" y="5638680"/>
                <a:ext cx="10666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419720" y="62485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495680" y="6210360"/>
                <a:ext cx="698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257800" y="6095880"/>
                <a:ext cx="533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867280" y="5867280"/>
                <a:ext cx="8766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467480" y="4952880"/>
                <a:ext cx="4971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8001000" y="5257800"/>
                <a:ext cx="87624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848720" y="5638680"/>
                <a:ext cx="379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447920" y="228600"/>
            <a:ext cx="6105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"/>
              </a:rPr>
              <a:t>NOTES  OVER  SOLV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"/>
              <a:ea typeface="comic"/>
            </a:endParaRPr>
          </a:p>
        </p:txBody>
      </p:sp>
      <p:sp>
        <p:nvSpPr>
          <p:cNvPr id="124" name=""/>
          <p:cNvSpPr txBox="1"/>
          <p:nvPr/>
        </p:nvSpPr>
        <p:spPr>
          <a:xfrm rot="5400000">
            <a:off x="-2762640" y="3067200"/>
            <a:ext cx="61722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olve each equ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011240" y="1600200"/>
                <a:ext cx="727380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447920" y="2666880"/>
                <a:ext cx="1752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124080" y="2666880"/>
                <a:ext cx="17528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752480" y="2666880"/>
                <a:ext cx="133848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352680" y="2666880"/>
                <a:ext cx="1371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 flipV="1">
            <a:off x="2057400" y="2362320"/>
            <a:ext cx="251460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371600" y="1447920"/>
                <a:ext cx="990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1447920"/>
                <a:ext cx="990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8153280" y="1447920"/>
                <a:ext cx="990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371600" y="1752480"/>
                <a:ext cx="9907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724280" y="1752480"/>
                <a:ext cx="9907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8153280" y="1752480"/>
                <a:ext cx="9907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 flipV="1">
            <a:off x="1676520" y="2819520"/>
            <a:ext cx="1218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371600" y="1599840"/>
            <a:ext cx="9144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447920" y="1904760"/>
            <a:ext cx="9144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429000" y="2819520"/>
            <a:ext cx="1219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486400" y="2362320"/>
            <a:ext cx="1219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800600" y="1599840"/>
            <a:ext cx="9144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086600" y="2362320"/>
            <a:ext cx="1219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8229600" y="1904760"/>
            <a:ext cx="9144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752480" y="3429000"/>
                <a:ext cx="7095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438280" y="3429000"/>
                <a:ext cx="1148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581280" y="3429000"/>
                <a:ext cx="8049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343400" y="3581280"/>
                <a:ext cx="4572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800600" y="3429000"/>
                <a:ext cx="914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638680" y="3352680"/>
                <a:ext cx="9144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895480" y="3962520"/>
                <a:ext cx="70488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581280" y="3962520"/>
                <a:ext cx="80496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343400" y="4114800"/>
                <a:ext cx="4572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800600" y="3962520"/>
                <a:ext cx="914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638680" y="3886200"/>
                <a:ext cx="9144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514600" y="4495680"/>
                <a:ext cx="10666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572000" y="4495680"/>
                <a:ext cx="10666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581280" y="4495680"/>
                <a:ext cx="8049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715000" y="4495680"/>
                <a:ext cx="8049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2590920" y="51055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581280" y="5105520"/>
                <a:ext cx="72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343400" y="5410080"/>
                <a:ext cx="4572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876920" y="5105520"/>
                <a:ext cx="609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886200" y="4952880"/>
                <a:ext cx="4986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952880" y="4952880"/>
                <a:ext cx="4986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324480" y="5486400"/>
                <a:ext cx="479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781680" y="5562720"/>
                <a:ext cx="45720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238880" y="5334120"/>
                <a:ext cx="914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1905120"/>
            <a:ext cx="7543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Bookwork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g. 661 #1-57 od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1T15:55:02Z</dcterms:created>
  <dc:creator>CCSS</dc:creator>
  <dc:description/>
  <dc:language>en-US</dc:language>
  <cp:lastModifiedBy>CCSS</cp:lastModifiedBy>
  <dcterms:modified xsi:type="dcterms:W3CDTF">2000-05-08T18:34:56Z</dcterms:modified>
  <cp:revision>4</cp:revision>
  <dc:subject/>
  <dc:title>No Slide Title</dc:title>
</cp:coreProperties>
</file>